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C5B0-34F7-4761-B6AE-7648D30B2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roductory lesson to using evidence to make deductions for year 6. The idea is to use the artefacts discovered in the bag to piece together what kind of person lost the bag. Build up a picture of the owner using the evidence but know that this is only a hypothesis and that there may be another answ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roductory lesson to using evidence to make deductions for year 6. The idea is to use the artefacts discovered in the bag to piece together what kind of person lost the bag. Build up a picture of the owner using the evidence but know that this is only a hypothesis and that there may be another answ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oto from a penpal in Mexic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tter from the penpal. Gives info that the owner of the bag may be Patty and she lives in Frome. She is also still at sch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to start summarising what we have discovered early on. Introduces class to task early, good practice in using evidence. Can also point out that to little evidence will give false pic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is a Christian? Has beliefs. Maybe goes to churc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belongs to a group or club. They study and read music and can presumably play an instrument. They may be dedicated and hardworking as music lessons of this sort are often done in your own ti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podermic syrsinge. Is the owner a junkie or a diabetic? Could they be allergic to something? The clues tell us the person is religious and musical. A good friend ( as they write pen pal letters) as well. The balance would seem to suggest that the syringe is for medical purpos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o get the class to piece together the jigsaw. Remember to now relate the activity and skills practiced to being a historia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C4572-8989-4841-8CFD-35D4B9953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A4DC4-8D10-4527-A6A7-DA0F4EB7B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B1E13-6A8F-4A55-8F6E-5E697FE47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01575-2994-42E1-B1CE-5567867C4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B4ED6-0CC5-434A-87D0-01E25E186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9418D-A633-487B-8611-BB0D4EC25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60AF1-45BA-4EC0-A8C3-84821064C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D48BC-4AF7-4C2B-873C-3615B63FB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ED566-CB81-4896-A75D-A98CE3DBB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ABEE7-0A52-46AC-866B-31EC911B4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F9A0B-F371-4E3E-836B-9490B4403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53CD1-6A05-41E4-87FA-4A1E90D74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0ED58-D5DC-4AF1-9765-580172879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1D080-DFC9-47DE-87B2-D5393E00A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14644-7B6C-4244-B160-A80E49863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B0A86-4FB9-4999-91F7-B9B6E0C67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9371F-F5CB-467E-B37A-6B7AF9FCB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4BDD8-4585-44A9-B390-AEF49FCF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4F7D-F040-42D5-A725-FC7450D99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8CF65-9565-411F-A064-7718CFC1E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97E3D-7BE4-400B-B305-7C99CB61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F7837-86F9-44BD-B617-238166A37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E94A7-277D-43CC-8BC9-0AB0FEB6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D07F-2834-4D8B-AC71-38E9571E8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098F-680B-4FD0-8184-8F4B4E85D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78B6-F700-44C5-8F9E-123B0CFDF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istorical Detectives.</a:t>
            </a:r>
            <a:endParaRPr b="0" lang="en-US" sz="4400" spc="-1" strike="noStrike">
              <a:solidFill>
                <a:srgbClr val="221304"/>
              </a:solidFill>
              <a:latin typeface="Times New Roman"/>
            </a:endParaRPr>
          </a:p>
        </p:txBody>
      </p:sp>
      <p:sp>
        <p:nvSpPr>
          <p:cNvPr id="98" name="PlaceHolder 2"/>
          <p:cNvSpPr>
            <a:spLocks noGrp="1"/>
          </p:cNvSpPr>
          <p:nvPr>
            <p:ph/>
          </p:nvPr>
        </p:nvSpPr>
        <p:spPr>
          <a:xfrm>
            <a:off x="1066320" y="3809880"/>
            <a:ext cx="7543800" cy="1067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By Mr Caslin</a:t>
            </a:r>
            <a:endParaRPr b="0" lang="en-US" sz="32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ff"/>
                </a:solidFill>
                <a:latin typeface="Times New Roman"/>
              </a:rPr>
              <a:t>Downloaded from www.SchoolHistory.co.u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3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iterate type="wd">
                                    <p:tmAbs val="300"/>
                                  </p:iterate>
                                  <p:childTnLst>
                                    <p:set>
                                      <p:cBhvr>
                                        <p:cTn id="11"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12" dur="3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istorical Detectives.</a:t>
            </a:r>
            <a:endParaRPr b="0" lang="en-US" sz="4400" spc="-1" strike="noStrike">
              <a:solidFill>
                <a:srgbClr val="221304"/>
              </a:solidFill>
              <a:latin typeface="Times New Roman"/>
            </a:endParaRPr>
          </a:p>
        </p:txBody>
      </p:sp>
      <p:sp>
        <p:nvSpPr>
          <p:cNvPr id="100" name="PlaceHolder 2"/>
          <p:cNvSpPr>
            <a:spLocks noGrp="1"/>
          </p:cNvSpPr>
          <p:nvPr>
            <p:ph/>
          </p:nvPr>
        </p:nvSpPr>
        <p:spPr>
          <a:xfrm>
            <a:off x="1066680" y="1752480"/>
            <a:ext cx="37353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g has been fou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ntained various it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ese items to discover what the owner is lik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USING EVIDENCE – ARTEFAC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1" name="" descr=""/>
          <p:cNvPicPr/>
          <p:nvPr/>
        </p:nvPicPr>
        <p:blipFill>
          <a:blip r:embed="rId1"/>
          <a:stretch/>
        </p:blipFill>
        <p:spPr>
          <a:xfrm>
            <a:off x="5221440" y="1752480"/>
            <a:ext cx="319392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is Is The First Object.</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might this b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on the back says “Write back soon, love Angelin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part of a letter with it. Would you like to read it?</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5224320" y="1752480"/>
            <a:ext cx="31910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ar Patty,</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s for your letter. My teacher has arranged pen pals for all of the class. I hope one day we can meet each other but it is long way from Mexico City to Rome. Perhaps we could meet in the midd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 What Do We Know So Far?</a:t>
            </a:r>
            <a:endParaRPr b="0" lang="en-US" sz="4400" spc="-1" strike="noStrike">
              <a:solidFill>
                <a:srgbClr val="221304"/>
              </a:solidFill>
              <a:latin typeface="Times New Roman"/>
            </a:endParaRPr>
          </a:p>
        </p:txBody>
      </p:sp>
      <p:sp>
        <p:nvSpPr>
          <p:cNvPr id="108"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lues have we ha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start to make assumptio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might the owner b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re Is The Next Object.</a:t>
            </a:r>
            <a:endParaRPr b="0" lang="en-US" sz="4400" spc="-1" strike="noStrike">
              <a:solidFill>
                <a:srgbClr val="221304"/>
              </a:solidFill>
              <a:latin typeface="Times New Roman"/>
            </a:endParaRPr>
          </a:p>
        </p:txBody>
      </p:sp>
      <p:sp>
        <p:nvSpPr>
          <p:cNvPr id="110"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pin bad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you have 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is tell you about the own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1712880" y="1752480"/>
            <a:ext cx="24415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Does This Object Tell Us?</a:t>
            </a:r>
            <a:endParaRPr b="0" lang="en-US" sz="4400" spc="-1" strike="noStrike">
              <a:solidFill>
                <a:srgbClr val="221304"/>
              </a:solidFill>
              <a:latin typeface="Times New Roman"/>
            </a:endParaRPr>
          </a:p>
        </p:txBody>
      </p:sp>
      <p:sp>
        <p:nvSpPr>
          <p:cNvPr id="113"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know what it 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this tell us about the persons charac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we are only making ASSUMP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may not be FAC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tretch/>
        </p:blipFill>
        <p:spPr>
          <a:xfrm>
            <a:off x="4952880" y="2347920"/>
            <a:ext cx="3733920" cy="29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Final Item in the Bag is..</a:t>
            </a:r>
            <a:endParaRPr b="0" lang="en-US" sz="4400" spc="-1" strike="noStrike">
              <a:solidFill>
                <a:srgbClr val="221304"/>
              </a:solidFill>
              <a:latin typeface="Times New Roman"/>
            </a:endParaRPr>
          </a:p>
        </p:txBody>
      </p:sp>
      <p:sp>
        <p:nvSpPr>
          <p:cNvPr id="11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what you think it 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it tell us about the owner of the ba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rest of the information help us to decide what it might be for?</a:t>
            </a:r>
            <a:endParaRPr b="0" lang="en-US" sz="2400" spc="-1" strike="noStrike">
              <a:solidFill>
                <a:srgbClr val="000000"/>
              </a:solidFill>
              <a:latin typeface="Times New Roman"/>
            </a:endParaRPr>
          </a:p>
        </p:txBody>
      </p:sp>
      <p:graphicFrame>
        <p:nvGraphicFramePr>
          <p:cNvPr id="117" name=""/>
          <p:cNvGraphicFramePr/>
          <p:nvPr/>
        </p:nvGraphicFramePr>
        <p:xfrm>
          <a:off x="5418000" y="1752480"/>
          <a:ext cx="2802240" cy="1981440"/>
        </p:xfrm>
        <a:graphic>
          <a:graphicData uri="http://schemas.openxmlformats.org/presentationml/2006/ole">
            <p:oleObj r:id="rId1" spid="">
              <p:embed/>
              <p:pic>
                <p:nvPicPr>
                  <p:cNvPr id="118" name="" descr=""/>
                  <p:cNvPicPr/>
                  <p:nvPr/>
                </p:nvPicPr>
                <p:blipFill>
                  <a:blip r:embed="rId2"/>
                  <a:stretch/>
                </p:blipFill>
                <p:spPr>
                  <a:xfrm>
                    <a:off x="5418000" y="1752480"/>
                    <a:ext cx="2802240" cy="1981440"/>
                  </a:xfrm>
                  <a:prstGeom prst="rect">
                    <a:avLst/>
                  </a:prstGeom>
                  <a:ln w="0">
                    <a:noFill/>
                  </a:ln>
                </p:spPr>
              </p:pic>
            </p:oleObj>
          </a:graphicData>
        </a:graphic>
      </p:graphicFrame>
      <p:graphicFrame>
        <p:nvGraphicFramePr>
          <p:cNvPr id="119" name=""/>
          <p:cNvGraphicFramePr/>
          <p:nvPr/>
        </p:nvGraphicFramePr>
        <p:xfrm>
          <a:off x="5810400" y="3886200"/>
          <a:ext cx="2017440" cy="1981080"/>
        </p:xfrm>
        <a:graphic>
          <a:graphicData uri="http://schemas.openxmlformats.org/presentationml/2006/ole">
            <p:oleObj r:id="rId3" spid="">
              <p:embed/>
              <p:pic>
                <p:nvPicPr>
                  <p:cNvPr id="120" name="" descr=""/>
                  <p:cNvPicPr/>
                  <p:nvPr/>
                </p:nvPicPr>
                <p:blipFill>
                  <a:blip r:embed="rId4"/>
                  <a:stretch/>
                </p:blipFill>
                <p:spPr>
                  <a:xfrm>
                    <a:off x="5810400" y="3886200"/>
                    <a:ext cx="20174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447920" y="838080"/>
            <a:ext cx="678168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ime to decide..put all the clues together….</a:t>
            </a:r>
            <a:endParaRPr b="0" lang="en-US" sz="4800" spc="-1" strike="noStrike">
              <a:solidFill>
                <a:srgbClr val="000000"/>
              </a:solidFill>
              <a:latin typeface="Times New Roman"/>
            </a:endParaRPr>
          </a:p>
        </p:txBody>
      </p:sp>
      <p:sp>
        <p:nvSpPr>
          <p:cNvPr id="122" name=""/>
          <p:cNvSpPr/>
          <p:nvPr/>
        </p:nvSpPr>
        <p:spPr>
          <a:xfrm>
            <a:off x="1600200" y="3048120"/>
            <a:ext cx="6400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a historical detective.</a:t>
            </a:r>
            <a:endParaRPr b="0" lang="en-US" sz="4800" spc="-1" strike="noStrike">
              <a:solidFill>
                <a:srgbClr val="000000"/>
              </a:solidFill>
              <a:latin typeface="Times New Roman"/>
            </a:endParaRPr>
          </a:p>
        </p:txBody>
      </p:sp>
      <p:sp>
        <p:nvSpPr>
          <p:cNvPr id="123" name=""/>
          <p:cNvSpPr/>
          <p:nvPr/>
        </p:nvSpPr>
        <p:spPr>
          <a:xfrm>
            <a:off x="1676520" y="4648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Times New Roman"/>
              </a:rPr>
              <a:t>Describe who the bag belongs 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0:55:46Z</dcterms:created>
  <dc:creator>selwood</dc:creator>
  <dc:description/>
  <dc:language>en-US</dc:language>
  <cp:lastModifiedBy>Carmel College</cp:lastModifiedBy>
  <dcterms:modified xsi:type="dcterms:W3CDTF">2008-09-10T03:07:40Z</dcterms:modified>
  <cp:revision>9</cp:revision>
  <dc:subject/>
  <dc:title>Historical Detectives.</dc:title>
</cp:coreProperties>
</file>